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68B-F68A-4B0C-8B15-80449073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5B13-6DF0-4BDA-BA4E-E8777907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E171-BE2F-4913-B960-7ADB87CB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0BE-A74D-4F5A-9EF8-44CBCC92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AD30-DF09-4EEB-ABB5-866BA7D5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B6D1-8381-49E5-B5BD-7D845B3D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7F9F-A316-4723-AFBA-809906FA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72D1-0660-4D52-9213-A7995F9D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E019-F7EA-4E47-BC3D-A88AC1FA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AC88-1DD5-4DA6-90FB-6EA4DBCC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9191-B9A7-4379-93E5-FA8FF1D8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6DB-4D4D-447B-B147-A29A5037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A086-C197-454A-8238-7553E337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C25E-5835-4078-BA70-B547D00C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E201-9FE3-4A5D-9AD6-C0D7296E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77FC-BEC5-4F26-A5A2-438DD5AE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04B7-4CAC-49F2-ACA0-5C6F4656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A325-7BA4-4231-8A14-9BAA9E50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8A11-7296-43CB-A22A-38DCEC00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E26D-177A-46BD-8466-AC5A13FA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6BE-F1C9-4762-84C7-2827C574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9958-3CDE-4C45-B74E-A171002B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CFBB-AC3E-4210-99CA-3EDB1E57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B7B-AA4B-48F4-876E-F9313D6B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5508-EABD-432B-B023-787A2DFC81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SYMETR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B348-647B-4F7E-96F7-BA0308D766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27000" y="234936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KONSTRUKCJA DWUSIECZNEJ KĄ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WUSIECZNA 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06640" y="1267200"/>
            <a:ext cx="73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any jes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at ABC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 Do konstrukcji dwusiecznej będzie potrzebny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yrkiel i linijk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rot="2511600">
            <a:off x="6327360" y="2394000"/>
            <a:ext cx="2114640" cy="2386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76280" y="2573280"/>
            <a:ext cx="2070360" cy="203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3402000" y="3564000"/>
          <a:ext cx="2982960" cy="241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02000" y="3564000"/>
                    <a:ext cx="298296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06640" y="141984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reślimy cyrklem łuk z wierzchołka ką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86280" y="2286000"/>
            <a:ext cx="1214280" cy="2492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WUSIECZNA 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267000" y="2664000"/>
          <a:ext cx="2982960" cy="241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67000" y="2664000"/>
                    <a:ext cx="298296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06640" y="1267200"/>
            <a:ext cx="73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 efekcie otrzymujemy kąt z odłożonymi na jego ramionach równymi odcinkami BD i 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WUSIECZNA 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771640" y="2438280"/>
          <a:ext cx="4094280" cy="33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438280"/>
                    <a:ext cx="409428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06640" y="1267200"/>
            <a:ext cx="73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reślimy łuki o jednakowym promieniu i środkach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w punktach E i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WUSIECZNA 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860560" y="2368440"/>
          <a:ext cx="414180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0560" y="2368440"/>
                    <a:ext cx="414180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862360" y="2438280"/>
          <a:ext cx="4093920" cy="331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62360" y="2438280"/>
                    <a:ext cx="409392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06640" y="1251360"/>
            <a:ext cx="73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reślimy półprostą łączącą wierzchołek kąta i punkt przecięcia się łu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Jest to dwusieczna kąta AB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WUSIECZNA 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367000" y="2619360"/>
          <a:ext cx="3824280" cy="31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2619360"/>
                    <a:ext cx="382428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 flipH="1">
            <a:off x="2501640" y="3699000"/>
            <a:ext cx="3825720" cy="1620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18440" y="342900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wusieczna 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25T19:06:22Z</dcterms:modified>
  <cp:revision>154</cp:revision>
  <dc:subject/>
  <dc:title>Slajd 1</dc:title>
</cp:coreProperties>
</file>